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98C-DEC8-4D82-BC52-D714CFBD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394-035A-49E5-A547-7258E5B1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73-3EC4-4078-95B5-35226F80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47C-4963-4D4C-98CE-43E7B384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389-8546-4358-9CE5-A0D884B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6E0-9B02-4551-AD04-70FB86F4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4D9-A72F-4D2F-B1D4-716B4E61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632-54D4-4C52-AC8E-BEC02364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D73-1FE4-43D3-BAB7-41E8423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A38-8DA2-4C44-931B-EFAE0C6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41B-14B7-4AF0-BBE5-FA0898C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E8B-F868-4EBF-BA0A-1D27A295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117-CA14-4096-8E61-8E2768925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линии 30 ЕГЭ 20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ый конус с углом при вершине 2а вращается с угловой скоростью со вокруг вертикальной оси, совпадающей с его осью симметрии. Вершина конуса обращена вверх. На внешней поверхности конуса находится небольшая шайба, коэффициент трения которой о поверхность конуса равен ц. При каком максимальном расстоя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ершины шайба будет неподвижна относительно конуса? Сделайте схематический рисунок с указанием сил, действующих на шай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2424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родный тонкий стержень масс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 =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одним концом шарнирно прикреплён к потолку, а другим концом опирается на массивную горизонтальную доску, образуя с ней угол а = 30°. Под действием горизонтальной сил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движется поступательно влево с постоянной скоростью (см. рис.). Стержень при этом неподвижен. Найд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эффициент трения стержня по доске ц = 0,2. Трением доски по опоре и трением в шарнире пренеб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0" y="380880"/>
            <a:ext cx="662940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838080" y="631800"/>
            <a:ext cx="72392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04920" y="923760"/>
            <a:ext cx="8839080" cy="48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280" y="1411200"/>
            <a:ext cx="86108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560520"/>
            <a:ext cx="914400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89154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7631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28600" y="1787400"/>
            <a:ext cx="8915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31T12:00:29Z</dcterms:created>
  <dc:creator>Sharypovs</dc:creator>
  <dc:description/>
  <dc:language>en-US</dc:language>
  <cp:lastModifiedBy>Пользователь</cp:lastModifiedBy>
  <dcterms:modified xsi:type="dcterms:W3CDTF">2021-11-09T20:59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